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DBF-ABCA-442D-B19E-1F0FAA16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6AA-1CEA-4675-8FE9-C2879744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A87-589C-41E6-888F-19CE4D09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73A-76E7-42E6-AA1D-BA6D1C7B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4E987-3803-4830-B367-6127C768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349F-F4B3-4901-9697-AFFB347A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50EC-1906-42C9-9CB4-551E693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3AA32-8A1C-41C0-9290-33EDC07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F13A-E1B6-4956-A66D-7A0418DA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2CF1-2D02-4120-B210-ACAA1EF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2279-392A-4E0C-BE95-3B50546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78D-E9B0-440F-855F-F91CFDB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41A9-B598-458A-B1C6-E27D8A08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CB45-5BF4-46DE-904D-E960B13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D04FC-AB3F-41B3-9764-50476B3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76D9A-4516-4A29-8C72-82D1AB9B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6F6E0-918D-448B-ADCF-4818B72E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A28E-62A4-4F89-9423-6B35F274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4750-1202-47C1-9974-413DBBA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FBC3-BD10-4785-914A-EBD9E56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75EB-9589-421B-AA6A-9CFC25B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3A6B-ED6A-4D21-9B1E-F0ED792C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CDA-74DC-4FCB-9620-8E959DB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5E5A-0ACF-4EAB-A0A9-F4F4B0DC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CAA7-95D2-4A17-B9FB-C27FF37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19DB-2721-4E60-A658-17A5A0C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2F6F-DF62-4636-ACAC-1570304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775B-5410-4027-9A4E-538B601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4DAA-15D5-40C8-B6DA-F7BB360D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A9C6-0447-42AF-B606-146C050A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C4D59-841E-4559-9913-C88A6B6D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49279-C0F2-4269-8F58-F6E95432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2BDD1-9013-4242-AE4A-95DDB61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2DB-A494-4964-A210-9147CD2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C9914-B44B-4582-B08C-6B53EFB5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D3D43-10EA-458A-B831-2E522D6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11A0F-A7C3-4D6D-B499-97727289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ABA5B-CBC7-4D0E-B21F-5D8053E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63354-35C0-4865-B329-B104244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87BF7-C50C-45AF-9F53-BBF6ADE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2F786-1B61-4112-AB25-0AADA6F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6C50A-1346-4D5A-B2C7-253DB348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5CBFB-0C1E-4443-8CEF-0547D755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53BBE-A7E8-456D-9DB3-ABB8B3AA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7AE-5D67-4F78-95B7-EF8C447D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9876C-0909-44BC-B55E-402A7CF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99DDF-C8B8-4280-BC32-B109105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E9227-8CE3-4C95-9A7E-F6831E81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81011-5525-422C-9C63-5D17BF9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22A85-26B0-4E46-B19E-D0E6927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0A617-0D65-4BAE-B863-9517696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C22BB-15CA-4B29-B375-A551302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73B97-AF17-4D83-848D-73998425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A92DA-FBF4-48E3-ACC1-AE0A1CC6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43AE1-EE38-4408-AF55-0BD2B9E8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3A-62FD-44FD-BDFC-F19B708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BBDA0-BCE5-4C8F-986B-2CCE2F4A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826FA-E0FB-4F26-945F-C1E27250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5904D-8B50-4E02-9034-BAA1EF26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6862E-AC8C-43BD-B614-BACD6D9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25B45-A341-4F03-840C-BE955A92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CD34F-E57D-4295-8C12-628725F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EAAE2-1207-44B3-BFBF-CB39F60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D0728-6C22-4F94-A0C9-7A243C4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D646F-EAA4-4531-9B17-7858A39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AD6F4-A7D5-4294-94F8-A026DE1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7B6-A2EB-40F2-A408-69E342F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3524F-2323-4A57-BA03-E757B5E5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8A2D9-ECA6-49A4-A8A5-9C261D35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C89DB-5A01-4292-80C0-A982D441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A1F-6D48-4270-8493-54F9B19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6B1-746B-49C0-87FC-0EF5BB3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285-D5C0-41E9-AC32-FB6482F18AA7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C08-CC85-4911-A7FF-A45DEDC168F9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7AF-FAC7-4FAC-A014-4610213C97EB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4BA6-4E73-49F5-AA74-67E27F83AC45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463-8041-440D-B1FA-B1711E6A87AA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BA9-B3A2-45DC-A81E-E3729164EB82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4429080"/>
            <a:ext cx="8305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b5395"/>
                </a:solidFill>
                <a:uFillTx/>
                <a:latin typeface="Comic Sans MS"/>
              </a:rPr>
              <a:t>Выполнили:</a:t>
            </a:r>
            <a:r>
              <a:rPr b="1" lang="ru-RU" sz="2200" spc="-1" strike="noStrike">
                <a:solidFill>
                  <a:srgbClr val="03495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Кузьмина А.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Кочанова М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Гусева Н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omic Sans MS"/>
              </a:rPr>
              <a:t>Пименова М.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126828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omic Sans MS"/>
              </a:rPr>
              <a:t>Кодирование графической информаци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26920" y="1268280"/>
            <a:ext cx="67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062c"/>
                </a:solidFill>
                <a:latin typeface="Comic Sans MS"/>
              </a:rPr>
              <a:t>Цель: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b5395"/>
                </a:solidFill>
                <a:latin typeface="Comic Sans MS"/>
              </a:rPr>
              <a:t>изучить особенности и способы освоения умений кодировать графическую информацию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2" descr=""/>
          <p:cNvPicPr/>
          <p:nvPr/>
        </p:nvPicPr>
        <p:blipFill>
          <a:blip r:embed="rId2"/>
          <a:stretch/>
        </p:blipFill>
        <p:spPr>
          <a:xfrm>
            <a:off x="781200" y="85680"/>
            <a:ext cx="7924680" cy="657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7120" y="2285640"/>
            <a:ext cx="85867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Кодирование информации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– создание изображений с помощью графических сред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Графические средств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– </a:t>
            </a: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это то, с помощью чего создаются графические изображен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566640" y="4935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Осуществление основных графических операций от руки и с использованием чертежных инстру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Построение графических изображений по образц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Создание изобразительной конструкции, моде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Осуществление основных графических операций и графических изображений с помощью цирку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57120" y="1000080"/>
          <a:ext cx="8229600" cy="5446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1.Осуществление основных графических операций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Построение от ру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оединение точек лин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Штрих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дорож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дорож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 звеньев разных тип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з фигу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Построение с использованием инстр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оединение точек лин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линий с помощью линей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окружностей и дуг с помощью цирку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композиций из  линий и фигур с помощью шаблонов, трафаретов и т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2.Создание изображений с опорой на образец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Полный образ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Калька, копировальная бума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Копир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Обведение по ли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с помощью игрови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Частичный образ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точкам (конту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штриховым ли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клетк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осью симмет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осям координ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родолжение рисунка на осевой закономер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Дорисовывание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с помощью игрови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3.Построение изображения по словесной инструкци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а)Графический дикт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На нелиновой бумаг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На бумаге в клет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 памя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800080"/>
                          </a:solidFill>
                          <a:uFillTx/>
                          <a:latin typeface="Comic Sans MS"/>
                        </a:rPr>
                        <a:t>б)Изображение стро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От ру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помощью инстру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c062c"/>
                          </a:solidFill>
                          <a:latin typeface="Comic Sans MS"/>
                        </a:rPr>
                        <a:t>4.Создание изображений по замыслу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Построение изображений на глаз, от ру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помощью обведения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использованием инструментов, шаблонов, трафаре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2303e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2303e"/>
                          </a:solidFill>
                          <a:latin typeface="Comic Sans MS"/>
                        </a:rPr>
                        <a:t>С использованием измер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-201600" y="85680"/>
            <a:ext cx="9558360" cy="779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Крупенчук О.И. Готовим руку к письму: Рисуем по клеточкам. – СПб.: Издательский Дом «Литера», 2006. - 64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Колесникова Е.В.Геометрические фигуры. Альбом упражнений для детей 5-7 лет. – М.: НОУ Центр Ровесники, 2000. – 24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Новикова Е.В. Как подготовить руку ребенка к письму. Комплекс упражнений для тренинга мышц рук у детей. – М.: Гном-Пресс, 2000. – 40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Трифонова Н.М. Увлекательные прописи для детей дошкольного возраста: развивающие прописи. – М.: Издатель-Трейд, 2006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Шевелев К.В. Основы геометрии для дошкольников: точки, линии, фигуры. Тестовое задание и упражнения. – М.: Издательство ГНОМ «Д»,2001. – 32 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И друг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3336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062c"/>
                </a:solidFill>
                <a:latin typeface="Comic Sans MS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5:21Z</dcterms:created>
  <dc:creator>Evgeniy</dc:creator>
  <dc:description/>
  <dc:language>en-US</dc:language>
  <cp:lastModifiedBy>Serg</cp:lastModifiedBy>
  <dcterms:modified xsi:type="dcterms:W3CDTF">2009-09-25T14:39:54Z</dcterms:modified>
  <cp:revision>18</cp:revision>
  <dc:subject/>
  <dc:title>Кодирование графической информации</dc:title>
</cp:coreProperties>
</file>